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3CDFD-9D1F-4093-B850-EB10CDF84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3F0FD-C8F6-40A2-B1F7-3ED30C639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C9D5D-9057-4936-AB92-01B8CBEF4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81A44-58FA-43ED-92A2-2147266AD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3AFE8-CF7B-4882-B35A-3EF2807B8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E3853-82C1-40EC-A80B-5A7766D69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99A9F-8183-4651-88F3-04FD62F4C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C518C-1B92-4CBF-8ED7-B5D1FE5FC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B2B68-8383-43BC-A780-220D3E741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08556-CBFE-4B06-A71C-23E4C1411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B8CB7-6F3A-47F5-898D-F5CC226DE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B1254-4AC5-400A-A8C6-ADD572859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19610-1369-4F65-9F38-C4505B8EC4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hinderthemnot.com/clip_art_duck.jpg" TargetMode="External"/><Relationship Id="rId3" Type="http://schemas.openxmlformats.org/officeDocument/2006/relationships/image" Target="../media/image2.jpeg"/><Relationship Id="rId4" Type="http://schemas.openxmlformats.org/officeDocument/2006/relationships/hyperlink" Target="http://www.clker.com/clipart-3426.html" TargetMode="External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71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assoonPrimaryInfant"/>
              </a:rPr>
              <a:t>A Day at the F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assoonPrimaryInfant"/>
              </a:rPr>
              <a:t>By Year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SassoonPrimaryInfant"/>
              </a:rPr>
              <a:t>The ducks quack was as loud as a storm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SassoonPrimaryInfant"/>
              </a:rPr>
              <a:t>And the mud that the pigs played in was like jelly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SassoonPrimaryInfant"/>
              </a:rPr>
              <a:t>The flowers smelled as fresh as perfum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SassoonPrimaryInfant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SassoonPrimaryInfant"/>
              </a:rPr>
              <a:t>and the smoke was a black as fog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SassoonPrimaryInfant"/>
              </a:rPr>
              <a:t>The horse chewed its food as loud as hail stone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SassoonPrimaryInfant"/>
              </a:rPr>
              <a:t>And I am wet and muddy like the pigs after splashing in puddles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SassoonPrimaryInfant"/>
              </a:rPr>
              <a:t>The grass was as spiky as an haircut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SassoonPrimaryInfant"/>
              </a:rPr>
              <a:t>And the mud felt squidgey like melted chocolate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SassoonPrimaryInfant"/>
              </a:rPr>
              <a:t>The baby ducks look as small as mic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SassoonPrimaryInfant"/>
              </a:rPr>
              <a:t>And the horses look tall like a house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See full size imag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1403280" cy="9716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Pig Clip Art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867280" y="1197000"/>
            <a:ext cx="2808360" cy="11574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6"/>
          <a:stretch/>
        </p:blipFill>
        <p:spPr>
          <a:xfrm>
            <a:off x="5148360" y="4521240"/>
            <a:ext cx="335916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4T20:23:31Z</dcterms:created>
  <dc:creator>Mrs Dixon</dc:creator>
  <dc:description/>
  <dc:language>en-US</dc:language>
  <cp:lastModifiedBy>Mrs Dixon</cp:lastModifiedBy>
  <dcterms:modified xsi:type="dcterms:W3CDTF">2010-03-26T18:42:19Z</dcterms:modified>
  <cp:revision>3</cp:revision>
  <dc:subject/>
  <dc:title>Slide 1</dc:title>
</cp:coreProperties>
</file>